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6FB-2B72-43B5-9D6B-727D8BF5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34E-ED27-4F63-A3E8-B9E8E8B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D39-A88D-421B-ACFF-A437D268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207-209C-4199-954D-ECDFE6A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3B65-9893-4E9E-A9D4-3581B512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B9FD-0D1C-4FDD-BBAD-533B0124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B5D5-4E0E-40A2-B8C6-E284347F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399D-4147-47AF-A35C-FC541A0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16F1-2DE4-4949-A2A6-5C74423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B5B-D2E6-422E-9106-8FCEDBD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5D1-A0C5-4080-AB90-FEE4C22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6B0-1B20-475E-B107-72C058B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BB8-E19D-40A6-ABE6-79C7B21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4ABD-B42E-4624-99B2-C7DB162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0ABA-3321-4CAB-8327-8F96D1BF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3CB9-1A5D-4807-870B-79BE1F0D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1ACE-EE08-4A0D-BA80-931925E7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C19B-16B9-4FE5-9B9F-876805D7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C2C1-A8C0-426D-9AB1-89AEAD0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D168-E41B-4ABB-B1CC-5956E7D3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5881-5B19-4E03-B273-3E3EEAF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087B-1FFD-4BD5-BF09-C93565F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F73-B5F3-4B92-A231-F1F740E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DB40-7DEA-4E24-93A6-50175E7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B0A3-7339-41E4-9171-90E0942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B12F-2301-4936-97FD-D2EEF59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2BF8-DEB7-43D5-AA3D-870EB79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DF9B-5C34-42CD-A3BD-C29C3043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6B0F-A421-40D2-BC53-846FDFF0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7899-3276-4C73-8A32-DF0D3A54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905A-D230-41EA-942E-A23E7256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7972-965F-41DD-907F-49D8B802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58AE-3C9D-4E33-99F1-4B50AB43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3CA-BFC7-4B2F-BB3A-E2D512B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A91A-F3C8-400F-B4C3-69483F8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3EC7-EAF2-40C8-9AB2-0E9450C1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9117-B523-41A9-9F38-22C6F9C0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D135-E94F-402C-A872-06665D2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0D4F-9CDD-41DE-A8DA-2987947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CDE3-9738-4A4D-9E48-B0CD907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3953-175A-4C87-9DD5-1834896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B690-A4B2-41CA-9368-06BE61B2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E4BC-5FBD-4BEF-94FA-FF96F84B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D85B-DA33-49E9-A689-B3FD2932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3DD-899A-47C2-890E-A385C8F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DC01B-D6ED-4671-8D45-BEE3629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49C7-5B3F-440C-B6B9-2401818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B9C5F-D3B4-413F-89D3-CF2482B5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1D01-C01E-4BB0-8CEA-2633D71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5154-094D-4131-85DD-D327CBF3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B15D-31F3-4343-8C1E-6A500855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3DEF-3EAE-40AA-B345-4A26AD0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6EBB-F189-4698-8C68-A2E366B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5EAC-F37D-473C-A481-B048F527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74D8-A39F-430A-A90F-223EC01C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C85-D136-4B1D-97EE-A975822A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E05A-9477-4F73-AC8C-2760CBD7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F66-3B5C-4694-96A6-D835005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067-43AD-4B8A-B044-667AFE5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721-5928-493D-BFE7-80939A77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50A-1A2C-4A14-9290-5E5EBB5D14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FBB-9E2C-444E-ADC0-4EC3D85B09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D6DC-CB5E-456D-A869-34CC5679167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7E56-9C26-4899-8D24-115CD1D263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DA1-60EC-4BB9-8E14-1D51F0BBC66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Lea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Head of the Federal Reserve Board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n Bernank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2" descr="Ben Bernanke official portrait.jpg"/>
          <p:cNvPicPr/>
          <p:nvPr/>
        </p:nvPicPr>
        <p:blipFill>
          <a:blip r:embed="rId1"/>
          <a:stretch/>
        </p:blipFill>
        <p:spPr>
          <a:xfrm>
            <a:off x="30481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Director of Homeland Secur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anet Napolitan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2" descr="Janet Napolitano official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hief Justice of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Robert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2" descr="File-Official roberts CJ cropped.jpg"/>
          <p:cNvPicPr/>
          <p:nvPr/>
        </p:nvPicPr>
        <p:blipFill>
          <a:blip r:embed="rId1"/>
          <a:stretch/>
        </p:blipFill>
        <p:spPr>
          <a:xfrm>
            <a:off x="2590920" y="228600"/>
            <a:ext cx="35049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frican-American Member of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larence Thoma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2" descr="Clarence Thomas official SCOTUS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2004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wing Vote on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thony Kenned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Anthony Kennedy official SCOTUS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4290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Newest Member of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lena Kaga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Elena Kagan Official SCOTUS Portrait (2013).jpg"/>
          <p:cNvPicPr/>
          <p:nvPr/>
        </p:nvPicPr>
        <p:blipFill>
          <a:blip r:embed="rId1"/>
          <a:stretch/>
        </p:blipFill>
        <p:spPr>
          <a:xfrm>
            <a:off x="3124080" y="2286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Democratic Senator from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Harki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Picture 2" descr="Tom Harkin official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124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Republican Senator from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arles Grassle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2" descr="Sen Chuck Grassley official.jpg"/>
          <p:cNvPicPr/>
          <p:nvPr/>
        </p:nvPicPr>
        <p:blipFill>
          <a:blip r:embed="rId1"/>
          <a:stretch/>
        </p:blipFill>
        <p:spPr>
          <a:xfrm>
            <a:off x="2819520" y="152280"/>
            <a:ext cx="3429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U.S. Representativ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Latham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Picture 2" descr="Tom Latham, official portrait, 112th Congress.jpg"/>
          <p:cNvPicPr/>
          <p:nvPr/>
        </p:nvPicPr>
        <p:blipFill>
          <a:blip r:embed="rId1"/>
          <a:stretch/>
        </p:blipFill>
        <p:spPr>
          <a:xfrm>
            <a:off x="2971800" y="152280"/>
            <a:ext cx="3429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nate Majority Leade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arry Rei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Picture 2" descr="Harry Reid official portrait 2009.jpg"/>
          <p:cNvPicPr/>
          <p:nvPr/>
        </p:nvPicPr>
        <p:blipFill>
          <a:blip r:embed="rId1"/>
          <a:stretch/>
        </p:blipFill>
        <p:spPr>
          <a:xfrm>
            <a:off x="2666880" y="152280"/>
            <a:ext cx="3429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the United Stat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rack Obam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1" name="Picture 4" descr="U.S. President Barack Obama is photographed standing in front of the Resolute Desk in the Oval Office of the White House, December 6, 2012.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Governor of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erry E. Branst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Picture of Terry Branstad as the 42nd Governor of Iowa"/>
          <p:cNvPicPr/>
          <p:nvPr/>
        </p:nvPicPr>
        <p:blipFill>
          <a:blip r:embed="rId1"/>
          <a:stretch/>
        </p:blipFill>
        <p:spPr>
          <a:xfrm>
            <a:off x="2590920" y="152280"/>
            <a:ext cx="35812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Lieutenant Governo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im Reynold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2" descr="Kim Reynolds cropped.jpg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4900320"/>
            <a:ext cx="830592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ember of the Iowa Senat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ent Sorens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2" descr="Kent Sorenson - Official Portrait - 84th GA.jpg"/>
          <p:cNvPicPr/>
          <p:nvPr/>
        </p:nvPicPr>
        <p:blipFill>
          <a:blip r:embed="rId1"/>
          <a:stretch/>
        </p:blipFill>
        <p:spPr>
          <a:xfrm>
            <a:off x="3048120" y="228600"/>
            <a:ext cx="28191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0032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ember of the Iowa Hous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cott Ourth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Scott Ourth - Official Portrait - 85th GA.jpg"/>
          <p:cNvPicPr/>
          <p:nvPr/>
        </p:nvPicPr>
        <p:blipFill>
          <a:blip r:embed="rId1"/>
          <a:stretch/>
        </p:blipFill>
        <p:spPr>
          <a:xfrm>
            <a:off x="3048120" y="38088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ayor of Indianol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en Bresna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Ken Bresnan - Candidate For Mayor of Indianola"/>
          <p:cNvPicPr/>
          <p:nvPr/>
        </p:nvPicPr>
        <p:blipFill>
          <a:blip r:embed="rId1"/>
          <a:stretch/>
        </p:blipFill>
        <p:spPr>
          <a:xfrm>
            <a:off x="2971800" y="685800"/>
            <a:ext cx="33526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Raul Castro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esident of Cub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0" name="Picture 2" descr="Presidente de Cuba, Raúl Castro, visita Salvador.jpg"/>
          <p:cNvPicPr/>
          <p:nvPr/>
        </p:nvPicPr>
        <p:blipFill>
          <a:blip r:embed="rId1"/>
          <a:stretch/>
        </p:blipFill>
        <p:spPr>
          <a:xfrm>
            <a:off x="3276720" y="152280"/>
            <a:ext cx="2743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Russi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ladimir Puti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Vladimir Putin 12015.jpg"/>
          <p:cNvPicPr/>
          <p:nvPr/>
        </p:nvPicPr>
        <p:blipFill>
          <a:blip r:embed="rId1"/>
          <a:stretch/>
        </p:blipFill>
        <p:spPr>
          <a:xfrm>
            <a:off x="2895480" y="152280"/>
            <a:ext cx="30481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hancellor of German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gela Merke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2" descr="AM Juli 2010 - 3zu4.jpg"/>
          <p:cNvPicPr/>
          <p:nvPr/>
        </p:nvPicPr>
        <p:blipFill>
          <a:blip r:embed="rId1"/>
          <a:stretch/>
        </p:blipFill>
        <p:spPr>
          <a:xfrm>
            <a:off x="2971800" y="380880"/>
            <a:ext cx="30481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Great Britai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avid Camer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2" descr="A man, clean shaven, with short straight dark brown swept back hair wearing a suit jacket, white shirt and blue tie"/>
          <p:cNvPicPr/>
          <p:nvPr/>
        </p:nvPicPr>
        <p:blipFill>
          <a:blip r:embed="rId1"/>
          <a:stretch/>
        </p:blipFill>
        <p:spPr>
          <a:xfrm>
            <a:off x="2819520" y="228600"/>
            <a:ext cx="32004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Franc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rancois Holland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François Hollande (Journées de Nantes 2012).jpg"/>
          <p:cNvPicPr/>
          <p:nvPr/>
        </p:nvPicPr>
        <p:blipFill>
          <a:blip r:embed="rId1"/>
          <a:stretch/>
        </p:blipFill>
        <p:spPr>
          <a:xfrm>
            <a:off x="3276720" y="228600"/>
            <a:ext cx="273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Vice President of the United States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e Bide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2" descr="Biden 2013.jpg"/>
          <p:cNvPicPr/>
          <p:nvPr/>
        </p:nvPicPr>
        <p:blipFill>
          <a:blip r:embed="rId1"/>
          <a:stretch/>
        </p:blipFill>
        <p:spPr>
          <a:xfrm>
            <a:off x="2895480" y="228600"/>
            <a:ext cx="3276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Israel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njamin Netanyahu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2" descr="Head and shoulders portrait of 60-ish man with gray hair, wearing suit and tie and looking at camera."/>
          <p:cNvPicPr/>
          <p:nvPr/>
        </p:nvPicPr>
        <p:blipFill>
          <a:blip r:embed="rId1"/>
          <a:stretch/>
        </p:blipFill>
        <p:spPr>
          <a:xfrm>
            <a:off x="2666880" y="914400"/>
            <a:ext cx="3886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Canad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tephen Harp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8" name="Picture 2" descr="Stephen Harper by Remy Steinegger.jpg"/>
          <p:cNvPicPr/>
          <p:nvPr/>
        </p:nvPicPr>
        <p:blipFill>
          <a:blip r:embed="rId1"/>
          <a:stretch/>
        </p:blipFill>
        <p:spPr>
          <a:xfrm>
            <a:off x="2819520" y="228600"/>
            <a:ext cx="3124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Chin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Xi Jinping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Xi Jinping Sept. 19, 2012.jpg"/>
          <p:cNvPicPr/>
          <p:nvPr/>
        </p:nvPicPr>
        <p:blipFill>
          <a:blip r:embed="rId1"/>
          <a:stretch/>
        </p:blipFill>
        <p:spPr>
          <a:xfrm>
            <a:off x="2666880" y="228600"/>
            <a:ext cx="33530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Ira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Mahmud Ahmadinej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2" descr="Mahmoud Ahmadinejad (Brazil 2009).jpg"/>
          <p:cNvPicPr/>
          <p:nvPr/>
        </p:nvPicPr>
        <p:blipFill>
          <a:blip r:embed="rId1"/>
          <a:stretch/>
        </p:blipFill>
        <p:spPr>
          <a:xfrm>
            <a:off x="2971800" y="457200"/>
            <a:ext cx="2895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General Secretary of North Kore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im Jong-u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7" name="Picture 2" descr="http://graphics8.nytimes.com/images/2010/10/10/world/10korea2-span/10korea2-span-articleInline.jpg"/>
          <p:cNvPicPr/>
          <p:nvPr/>
        </p:nvPicPr>
        <p:blipFill>
          <a:blip r:embed="rId1"/>
          <a:stretch/>
        </p:blipFill>
        <p:spPr>
          <a:xfrm>
            <a:off x="3200400" y="304920"/>
            <a:ext cx="3124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-General of United N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n Ki-Mo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Ban Ki-moon 1-2.jpg"/>
          <p:cNvPicPr/>
          <p:nvPr/>
        </p:nvPicPr>
        <p:blipFill>
          <a:blip r:embed="rId1"/>
          <a:stretch/>
        </p:blipFill>
        <p:spPr>
          <a:xfrm>
            <a:off x="2743200" y="33336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merican UN Ambassado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usan Ric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Susan Rice, official State Dept photo portrait, 2009.jpg"/>
          <p:cNvPicPr/>
          <p:nvPr/>
        </p:nvPicPr>
        <p:blipFill>
          <a:blip r:embed="rId1"/>
          <a:stretch/>
        </p:blipFill>
        <p:spPr>
          <a:xfrm>
            <a:off x="297180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peaker of the Hou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Boehn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John Boehner official portrait.jpg"/>
          <p:cNvPicPr/>
          <p:nvPr/>
        </p:nvPicPr>
        <p:blipFill>
          <a:blip r:embed="rId1"/>
          <a:stretch/>
        </p:blipFill>
        <p:spPr>
          <a:xfrm>
            <a:off x="3124080" y="3049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Stat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Kerr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John Kerry official Secretary of State portrait.jpg"/>
          <p:cNvPicPr/>
          <p:nvPr/>
        </p:nvPicPr>
        <p:blipFill>
          <a:blip r:embed="rId1"/>
          <a:stretch/>
        </p:blipFill>
        <p:spPr>
          <a:xfrm>
            <a:off x="2819520" y="284040"/>
            <a:ext cx="33526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U.S. Attorney General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ric Hold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Eric Holder official portrait.jpg"/>
          <p:cNvPicPr/>
          <p:nvPr/>
        </p:nvPicPr>
        <p:blipFill>
          <a:blip r:embed="rId1"/>
          <a:stretch/>
        </p:blipFill>
        <p:spPr>
          <a:xfrm>
            <a:off x="2971800" y="2286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Defen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uck Hage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huck Hagel Defense portrait.jpg"/>
          <p:cNvPicPr/>
          <p:nvPr/>
        </p:nvPicPr>
        <p:blipFill>
          <a:blip r:embed="rId1"/>
          <a:stretch/>
        </p:blipFill>
        <p:spPr>
          <a:xfrm>
            <a:off x="28195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Treasu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ack 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2" descr="Jacob Lew official portrait.jpg"/>
          <p:cNvPicPr/>
          <p:nvPr/>
        </p:nvPicPr>
        <p:blipFill>
          <a:blip r:embed="rId1"/>
          <a:stretch/>
        </p:blipFill>
        <p:spPr>
          <a:xfrm>
            <a:off x="2819520" y="152280"/>
            <a:ext cx="3124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Agricultur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Vilsack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Tom Vilsack, official USDA photo portrait.jpg"/>
          <p:cNvPicPr/>
          <p:nvPr/>
        </p:nvPicPr>
        <p:blipFill>
          <a:blip r:embed="rId1"/>
          <a:stretch/>
        </p:blipFill>
        <p:spPr>
          <a:xfrm>
            <a:off x="28195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57:28Z</dcterms:created>
  <dc:creator>Dustin</dc:creator>
  <dc:description/>
  <dc:language>en-US</dc:language>
  <cp:lastModifiedBy>lullmannj</cp:lastModifiedBy>
  <dcterms:modified xsi:type="dcterms:W3CDTF">2013-04-03T14:04:45Z</dcterms:modified>
  <cp:revision>13</cp:revision>
  <dc:subject/>
  <dc:title>Leaders</dc:title>
</cp:coreProperties>
</file>